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126-4B04-4D87-9D70-1C92E564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AEF-35A2-439B-B8EF-D03BA42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B1A-0151-49EA-A2DA-CEA90071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82D-EA15-4E57-AD9C-A906FB58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9A2-48A5-446C-B880-7D4EBAB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517-D70A-43BC-B42B-392A0E0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D34-3839-47A2-9FF8-389BEB8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8D1-7051-4D15-9DE6-E7929A7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5BA-E5B0-4EEA-A593-210777B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6AA-CAB3-4990-B47F-7093E83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663-9173-4E8D-8589-BAA83D58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E3D-BB5F-4C58-830D-0FCDA5E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3A97-CAD4-4A77-80AC-1F2C069663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5D86-A818-40AE-9FF9-866639CFA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57120" y="1214280"/>
            <a:ext cx="821556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ke away task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hallenges in building successful partnership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to allow all young people the opportunity to realise their entitlements within the senior phase regardless of where their learning is taking plac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rategies would you require to put in place to help address the cultural barriers between different organisations and sectors to support a sharing of values and ethos to support the educational experience of the young person in your chosen scena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EBroadley</cp:lastModifiedBy>
  <dcterms:modified xsi:type="dcterms:W3CDTF">2009-11-11T08:33:51Z</dcterms:modified>
  <cp:revision>152</cp:revision>
  <dc:subject/>
  <dc:title>Slide 1</dc:title>
</cp:coreProperties>
</file>